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D74-17C5-4335-BE3B-30885E30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8ECA-7203-4AAC-BA0F-18FF0224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977-5E2A-4E7C-9406-1F349BD8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FB3-A5A6-4BA7-8F2D-68D750BA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C1F-A212-47F4-8188-27D4FF8E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E65-2D4B-456C-A7AF-06D5D2B9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A55-EAAA-4325-B7D1-041E58D8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8D44-7C8B-4086-83E8-427708B3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4B4-E5A0-461A-85CD-BCBF123F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435-D759-4307-8B46-76920CF3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7562-91F1-4CC0-A823-1CE09214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9BA4-C4A6-445C-9353-C565D179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4504-EFFE-416E-91F3-4B69BED41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all to Worship (lame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ry to God, we cry alou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day of our trou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seek you, Go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as your steadfast love ceas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or e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Are your promises at an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Have you forgotten to be gra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nd shut up your compa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all God’s deeds to mi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remember your wonders of o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muse up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mighty wor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way, O God, is holy.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77:1-2, 8-9, 11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41:22Z</dcterms:created>
  <dc:creator>Anon Anon</dc:creator>
  <dc:description/>
  <dc:language>en-US</dc:language>
  <cp:lastModifiedBy>Anon Anon</cp:lastModifiedBy>
  <dcterms:modified xsi:type="dcterms:W3CDTF">2005-08-09T05:35:42Z</dcterms:modified>
  <cp:revision>10</cp:revision>
  <dc:subject/>
  <dc:title>Call to Worship (lament)</dc:title>
</cp:coreProperties>
</file>